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F66-AA82-4B8C-A413-2866A280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D55-6ECC-42AA-86B1-39386E80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004D-C7A4-4CD3-A12C-3EDB171D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EB7-E2F3-4C91-B964-C212DEF8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4E4D-4E91-44AA-BFC9-F4F02C9E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9F21-5725-4A1C-A254-448E5C93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D054-7945-4B42-AE9A-57D38F8B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E306-B7ED-43AB-B72D-F129BBB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6C0-40A8-495A-8927-49872246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58A-CDBD-4D2D-B704-3876007D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C66-2BB2-4EA4-A34B-DB76C87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AB1-7D6B-4328-9F59-7A071A9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E45A-D41B-4A2F-B7F2-C00FF2E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E522-6C74-44C1-96AE-C9E21FD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642A-1F10-4053-A190-9B0A7FF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9164-1E8E-4CE4-A7E9-D9E68CB8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EFE5-B0C8-4E9C-8BCF-7545290D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FAE-3F38-41B0-9A19-5A6388BF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4E3-8FA7-4245-852C-D650B4C5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74C-B1F9-4D72-9371-C090E65D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454-6655-420B-8957-8B63EDCD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299-1690-4CA1-AC24-D727DCC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392-0055-4337-B29C-AEBF047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677-5C6E-4A03-83CC-98382A5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E2AF-E2C7-4A7E-AC98-FCE98DF20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6964-3B0C-4E5E-855B-750B8171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4920" y="48528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perty Managem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3" descr="j0398393[1]"/>
          <p:cNvPicPr/>
          <p:nvPr/>
        </p:nvPicPr>
        <p:blipFill>
          <a:blip r:embed="rId1"/>
          <a:stretch/>
        </p:blipFill>
        <p:spPr>
          <a:xfrm>
            <a:off x="5410080" y="3051000"/>
            <a:ext cx="326556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N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 of individual’s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ival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-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arture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o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ress of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ne of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ation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 of reservation/Status o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y (after check-i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Numb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oom Assig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pe, configuration &amp; desig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ate pai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s the current room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 of Pay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, Credit Card, Direct Billing or Che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ing Metho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PO, SRT, SA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Loyalty 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t stay program numb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quent Flier #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line incentive partnersh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al Reques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rly/Late check-in/checkout, upgra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e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ee form field that allows front desk staff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cate to each other regarding 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gu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ket Co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to track the accuracy of the gues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Registration Menu Examp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31139" r="0" b="0"/>
          <a:stretch/>
        </p:blipFill>
        <p:spPr>
          <a:xfrm>
            <a:off x="684360" y="1752480"/>
            <a:ext cx="7704000" cy="4340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740720" y="613728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3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 Men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accounting menu will contain a limited amount of information relating to the guest’s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primary purpose is to document every financial transaction relating to the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time a charge is posted, a credit issues, or a payment made it will be reflected in this dis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ugh the order and verbiage may differ, the following lists the information contained on the accounting men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Menu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QUIRED FIEL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uest Na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 of individual’s ac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ival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-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arture 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e of checko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m Numb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tual room assig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thod of Pay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h, Credit, Direct Billing, Che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ation Stat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sts the current rooms status of the roo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mainder of the guest accounting menu summarizes the financial transactions, each is issued a line number so the record is easy to fo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nal item of note is the record of the employee who made the 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eck-i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ction illustrates the check-in of a walk-in guest (that is, a guest with no prior reserv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lk-in rate is set by the Front Office Manager, who will notify front desk staff if the hotel finds itself in need of occupancy for on a certai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chanics of checking in a walk-in guest are very similar to making an advanced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the check-in process example on hand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Check-in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reservation process is complete, the PMS may issue a registration 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gistration c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mmarises much of the information contained in the guest registration menu of the P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gistration card is viewed by the guest to confirm all details and by signing the card the creates a binding agreement between the hotel and the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istration Card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00000" y="1989000"/>
            <a:ext cx="7344000" cy="381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03640" y="2205000"/>
            <a:ext cx="28810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6720" y="2276640"/>
            <a:ext cx="27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ice Hotel and Tower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23 Nice Avenue, Anywhere, US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71640" y="23493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 Number 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877080" y="2349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rd # 00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116000" y="3141720"/>
            <a:ext cx="676908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rrival Date ___________ Departure Date __________ Payment 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 Preference _____________ Rate 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gnature 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By signing the above, I hereby confirm all details contained herein are correct and agree to abide by hotel policies)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Name 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dress _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elephone ________________________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042920" y="4869000"/>
            <a:ext cx="151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heck-in time is 3p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588000" y="4869000"/>
            <a:ext cx="15130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heckout time is 12p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7667640" y="59500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5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Hierarc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MS contains specialized information and reporting capabilities for a specific rooms-divisio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of these menus lead the user to even more specialised information and reporting cap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rganisation of these menu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MS Hierarch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starts with the most broad menu (Front Office) and narrows its scope as each menu gets more specif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ied to authority level and the “need to know” 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Hierarchy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8"/>
          <p:cNvGrpSpPr/>
          <p:nvPr/>
        </p:nvGrpSpPr>
        <p:grpSpPr>
          <a:xfrm>
            <a:off x="611280" y="1752480"/>
            <a:ext cx="7992720" cy="4412880"/>
            <a:chOff x="611280" y="1752480"/>
            <a:chExt cx="7992720" cy="4412880"/>
          </a:xfrm>
        </p:grpSpPr>
        <p:cxnSp>
          <p:nvCxnSpPr>
            <p:cNvPr id="133" name="_s1028"/>
            <p:cNvCxnSpPr>
              <a:stCxn id="134" idx="1"/>
              <a:endCxn id="135" idx="2"/>
            </p:cNvCxnSpPr>
            <p:nvPr/>
          </p:nvCxnSpPr>
          <p:spPr>
            <a:xfrm rot="10800000">
              <a:off x="7270920" y="2599560"/>
              <a:ext cx="190800" cy="85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1"/>
              <a:endCxn id="135" idx="2"/>
            </p:cNvCxnSpPr>
            <p:nvPr/>
          </p:nvCxnSpPr>
          <p:spPr>
            <a:xfrm rot="10800000">
              <a:off x="7270920" y="2599560"/>
              <a:ext cx="190800" cy="34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1"/>
              <a:endCxn id="140" idx="2"/>
            </p:cNvCxnSpPr>
            <p:nvPr/>
          </p:nvCxnSpPr>
          <p:spPr>
            <a:xfrm rot="10800000">
              <a:off x="5749920" y="2599560"/>
              <a:ext cx="189360" cy="237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1" name="_s1031"/>
            <p:cNvCxnSpPr>
              <a:stCxn id="142" idx="1"/>
              <a:endCxn id="140" idx="2"/>
            </p:cNvCxnSpPr>
            <p:nvPr/>
          </p:nvCxnSpPr>
          <p:spPr>
            <a:xfrm rot="10800000">
              <a:off x="5749920" y="2599560"/>
              <a:ext cx="189360" cy="187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1032"/>
            <p:cNvCxnSpPr>
              <a:stCxn id="144" idx="1"/>
              <a:endCxn id="140" idx="2"/>
            </p:cNvCxnSpPr>
            <p:nvPr/>
          </p:nvCxnSpPr>
          <p:spPr>
            <a:xfrm rot="10800000">
              <a:off x="5749920" y="2599560"/>
              <a:ext cx="189360" cy="136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1033"/>
            <p:cNvCxnSpPr>
              <a:stCxn id="146" idx="1"/>
              <a:endCxn id="140" idx="2"/>
            </p:cNvCxnSpPr>
            <p:nvPr/>
          </p:nvCxnSpPr>
          <p:spPr>
            <a:xfrm rot="10800000">
              <a:off x="5749920" y="2599560"/>
              <a:ext cx="189360" cy="85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4"/>
            <p:cNvCxnSpPr>
              <a:stCxn id="148" idx="1"/>
              <a:endCxn id="140" idx="2"/>
            </p:cNvCxnSpPr>
            <p:nvPr/>
          </p:nvCxnSpPr>
          <p:spPr>
            <a:xfrm rot="10800000">
              <a:off x="5749920" y="2599560"/>
              <a:ext cx="189360" cy="34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1035"/>
            <p:cNvCxnSpPr>
              <a:stCxn id="150" idx="1"/>
              <a:endCxn id="151" idx="2"/>
            </p:cNvCxnSpPr>
            <p:nvPr/>
          </p:nvCxnSpPr>
          <p:spPr>
            <a:xfrm rot="10800000">
              <a:off x="4227120" y="2601000"/>
              <a:ext cx="18828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1036"/>
            <p:cNvCxnSpPr>
              <a:stCxn id="153" idx="1"/>
              <a:endCxn id="151" idx="2"/>
            </p:cNvCxnSpPr>
            <p:nvPr/>
          </p:nvCxnSpPr>
          <p:spPr>
            <a:xfrm rot="10800000">
              <a:off x="4227120" y="2601000"/>
              <a:ext cx="18828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1037"/>
            <p:cNvCxnSpPr>
              <a:stCxn id="155" idx="1"/>
              <a:endCxn id="151" idx="2"/>
            </p:cNvCxnSpPr>
            <p:nvPr/>
          </p:nvCxnSpPr>
          <p:spPr>
            <a:xfrm rot="10800000">
              <a:off x="4227120" y="2601000"/>
              <a:ext cx="18828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8"/>
            <p:cNvCxnSpPr>
              <a:stCxn id="157" idx="1"/>
              <a:endCxn id="151" idx="2"/>
            </p:cNvCxnSpPr>
            <p:nvPr/>
          </p:nvCxnSpPr>
          <p:spPr>
            <a:xfrm rot="10800000">
              <a:off x="4227120" y="2601000"/>
              <a:ext cx="18828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39"/>
            <p:cNvCxnSpPr>
              <a:stCxn id="159" idx="1"/>
              <a:endCxn id="151" idx="2"/>
            </p:cNvCxnSpPr>
            <p:nvPr/>
          </p:nvCxnSpPr>
          <p:spPr>
            <a:xfrm rot="10800000">
              <a:off x="4227120" y="2601000"/>
              <a:ext cx="18828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40"/>
            <p:cNvCxnSpPr>
              <a:stCxn id="161" idx="1"/>
              <a:endCxn id="162" idx="2"/>
            </p:cNvCxnSpPr>
            <p:nvPr/>
          </p:nvCxnSpPr>
          <p:spPr>
            <a:xfrm rot="10800000">
              <a:off x="2702880" y="2601000"/>
              <a:ext cx="190800" cy="3394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41"/>
            <p:cNvCxnSpPr>
              <a:stCxn id="164" idx="1"/>
              <a:endCxn id="162" idx="2"/>
            </p:cNvCxnSpPr>
            <p:nvPr/>
          </p:nvCxnSpPr>
          <p:spPr>
            <a:xfrm rot="10800000">
              <a:off x="2702880" y="2601000"/>
              <a:ext cx="190800" cy="2886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42"/>
            <p:cNvCxnSpPr>
              <a:stCxn id="166" idx="1"/>
              <a:endCxn id="162" idx="2"/>
            </p:cNvCxnSpPr>
            <p:nvPr/>
          </p:nvCxnSpPr>
          <p:spPr>
            <a:xfrm rot="10800000">
              <a:off x="2702880" y="2601000"/>
              <a:ext cx="19080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43"/>
            <p:cNvCxnSpPr>
              <a:stCxn id="168" idx="1"/>
              <a:endCxn id="162" idx="2"/>
            </p:cNvCxnSpPr>
            <p:nvPr/>
          </p:nvCxnSpPr>
          <p:spPr>
            <a:xfrm rot="10800000">
              <a:off x="2702880" y="2601000"/>
              <a:ext cx="19080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44"/>
            <p:cNvCxnSpPr>
              <a:stCxn id="170" idx="1"/>
              <a:endCxn id="162" idx="2"/>
            </p:cNvCxnSpPr>
            <p:nvPr/>
          </p:nvCxnSpPr>
          <p:spPr>
            <a:xfrm rot="10800000">
              <a:off x="2702880" y="2601000"/>
              <a:ext cx="19080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45"/>
            <p:cNvCxnSpPr>
              <a:stCxn id="172" idx="1"/>
              <a:endCxn id="162" idx="2"/>
            </p:cNvCxnSpPr>
            <p:nvPr/>
          </p:nvCxnSpPr>
          <p:spPr>
            <a:xfrm rot="10800000">
              <a:off x="2702880" y="2601000"/>
              <a:ext cx="19080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46"/>
            <p:cNvCxnSpPr>
              <a:stCxn id="174" idx="1"/>
              <a:endCxn id="162" idx="2"/>
            </p:cNvCxnSpPr>
            <p:nvPr/>
          </p:nvCxnSpPr>
          <p:spPr>
            <a:xfrm rot="10800000">
              <a:off x="2702880" y="2601000"/>
              <a:ext cx="19080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47"/>
            <p:cNvCxnSpPr>
              <a:stCxn id="176" idx="1"/>
              <a:endCxn id="177" idx="2"/>
            </p:cNvCxnSpPr>
            <p:nvPr/>
          </p:nvCxnSpPr>
          <p:spPr>
            <a:xfrm rot="10800000">
              <a:off x="1182600" y="2601000"/>
              <a:ext cx="189720" cy="339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048"/>
            <p:cNvCxnSpPr>
              <a:stCxn id="179" idx="1"/>
              <a:endCxn id="177" idx="2"/>
            </p:cNvCxnSpPr>
            <p:nvPr/>
          </p:nvCxnSpPr>
          <p:spPr>
            <a:xfrm rot="10800000">
              <a:off x="1182600" y="2601000"/>
              <a:ext cx="189720" cy="288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049"/>
            <p:cNvCxnSpPr>
              <a:stCxn id="181" idx="1"/>
              <a:endCxn id="177" idx="2"/>
            </p:cNvCxnSpPr>
            <p:nvPr/>
          </p:nvCxnSpPr>
          <p:spPr>
            <a:xfrm rot="10800000">
              <a:off x="1182600" y="2601000"/>
              <a:ext cx="189720" cy="237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50"/>
            <p:cNvCxnSpPr>
              <a:stCxn id="183" idx="1"/>
              <a:endCxn id="177" idx="2"/>
            </p:cNvCxnSpPr>
            <p:nvPr/>
          </p:nvCxnSpPr>
          <p:spPr>
            <a:xfrm rot="10800000">
              <a:off x="1182600" y="2601000"/>
              <a:ext cx="189720" cy="1869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1051"/>
            <p:cNvCxnSpPr>
              <a:stCxn id="185" idx="1"/>
              <a:endCxn id="177" idx="2"/>
            </p:cNvCxnSpPr>
            <p:nvPr/>
          </p:nvCxnSpPr>
          <p:spPr>
            <a:xfrm rot="10800000">
              <a:off x="1182600" y="2601000"/>
              <a:ext cx="189720" cy="135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1052"/>
            <p:cNvCxnSpPr>
              <a:stCxn id="187" idx="1"/>
              <a:endCxn id="177" idx="2"/>
            </p:cNvCxnSpPr>
            <p:nvPr/>
          </p:nvCxnSpPr>
          <p:spPr>
            <a:xfrm rot="10800000">
              <a:off x="1182600" y="2601000"/>
              <a:ext cx="189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053"/>
            <p:cNvCxnSpPr>
              <a:stCxn id="189" idx="1"/>
              <a:endCxn id="177" idx="2"/>
            </p:cNvCxnSpPr>
            <p:nvPr/>
          </p:nvCxnSpPr>
          <p:spPr>
            <a:xfrm rot="10800000">
              <a:off x="1182600" y="2601000"/>
              <a:ext cx="189720" cy="340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1054"/>
            <p:cNvCxnSpPr>
              <a:stCxn id="135" idx="0"/>
              <a:endCxn id="191" idx="2"/>
            </p:cNvCxnSpPr>
            <p:nvPr/>
          </p:nvCxnSpPr>
          <p:spPr>
            <a:xfrm flipV="1" rot="16200000">
              <a:off x="5664240" y="654120"/>
              <a:ext cx="170280" cy="3044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1055"/>
            <p:cNvCxnSpPr>
              <a:stCxn id="140" idx="0"/>
              <a:endCxn id="191" idx="2"/>
            </p:cNvCxnSpPr>
            <p:nvPr/>
          </p:nvCxnSpPr>
          <p:spPr>
            <a:xfrm flipV="1" rot="16200000">
              <a:off x="4903560" y="1414800"/>
              <a:ext cx="170280" cy="15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56"/>
            <p:cNvCxnSpPr>
              <a:stCxn id="151" idx="0"/>
              <a:endCxn id="191" idx="2"/>
            </p:cNvCxnSpPr>
            <p:nvPr/>
          </p:nvCxnSpPr>
          <p:spPr>
            <a:xfrm flipV="1">
              <a:off x="4227480" y="2091240"/>
              <a:ext cx="1800" cy="1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1057"/>
            <p:cNvCxnSpPr>
              <a:stCxn id="162" idx="0"/>
              <a:endCxn id="191" idx="2"/>
            </p:cNvCxnSpPr>
            <p:nvPr/>
          </p:nvCxnSpPr>
          <p:spPr>
            <a:xfrm flipH="1" flipV="1" rot="5400000">
              <a:off x="3380760" y="1414080"/>
              <a:ext cx="170280" cy="1524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58"/>
            <p:cNvCxnSpPr>
              <a:stCxn id="177" idx="0"/>
              <a:endCxn id="191" idx="2"/>
            </p:cNvCxnSpPr>
            <p:nvPr/>
          </p:nvCxnSpPr>
          <p:spPr>
            <a:xfrm flipH="1" flipV="1" rot="5400000">
              <a:off x="2620440" y="654120"/>
              <a:ext cx="170280" cy="3044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1059"/>
            <p:cNvSpPr/>
            <p:nvPr/>
          </p:nvSpPr>
          <p:spPr>
            <a:xfrm>
              <a:off x="3655080" y="17524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ront Offic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_s1060"/>
            <p:cNvSpPr/>
            <p:nvPr/>
          </p:nvSpPr>
          <p:spPr>
            <a:xfrm>
              <a:off x="6112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s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61"/>
            <p:cNvSpPr/>
            <p:nvPr/>
          </p:nvSpPr>
          <p:spPr>
            <a:xfrm>
              <a:off x="21322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_s1062"/>
            <p:cNvSpPr/>
            <p:nvPr/>
          </p:nvSpPr>
          <p:spPr>
            <a:xfrm>
              <a:off x="3655080" y="2261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Night Audi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63"/>
            <p:cNvSpPr/>
            <p:nvPr/>
          </p:nvSpPr>
          <p:spPr>
            <a:xfrm>
              <a:off x="5179320" y="226188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Housekeeping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1064"/>
            <p:cNvSpPr/>
            <p:nvPr/>
          </p:nvSpPr>
          <p:spPr>
            <a:xfrm>
              <a:off x="6700680" y="2261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niform Service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1065"/>
            <p:cNvSpPr/>
            <p:nvPr/>
          </p:nvSpPr>
          <p:spPr>
            <a:xfrm>
              <a:off x="1372320" y="277164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ke a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_s1066"/>
            <p:cNvSpPr/>
            <p:nvPr/>
          </p:nvSpPr>
          <p:spPr>
            <a:xfrm>
              <a:off x="1372320" y="328104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ost Advance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Deposi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1067"/>
            <p:cNvSpPr/>
            <p:nvPr/>
          </p:nvSpPr>
          <p:spPr>
            <a:xfrm>
              <a:off x="1372320" y="3790800"/>
              <a:ext cx="1140480" cy="337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roup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ooking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_s1068"/>
            <p:cNvSpPr/>
            <p:nvPr/>
          </p:nvSpPr>
          <p:spPr>
            <a:xfrm>
              <a:off x="1372320" y="430056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ravel Agen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ommission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1069"/>
            <p:cNvSpPr/>
            <p:nvPr/>
          </p:nvSpPr>
          <p:spPr>
            <a:xfrm>
              <a:off x="1372320" y="4808880"/>
              <a:ext cx="114048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orecas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_s1070"/>
            <p:cNvSpPr/>
            <p:nvPr/>
          </p:nvSpPr>
          <p:spPr>
            <a:xfrm>
              <a:off x="1372320" y="5317200"/>
              <a:ext cx="1140480" cy="3373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servation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71"/>
            <p:cNvSpPr/>
            <p:nvPr/>
          </p:nvSpPr>
          <p:spPr>
            <a:xfrm>
              <a:off x="1372320" y="5825880"/>
              <a:ext cx="1140480" cy="3358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_s1072"/>
            <p:cNvSpPr/>
            <p:nvPr/>
          </p:nvSpPr>
          <p:spPr>
            <a:xfrm>
              <a:off x="2893680" y="277164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_s1073"/>
            <p:cNvSpPr/>
            <p:nvPr/>
          </p:nvSpPr>
          <p:spPr>
            <a:xfrm>
              <a:off x="28936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Account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74"/>
            <p:cNvSpPr/>
            <p:nvPr/>
          </p:nvSpPr>
          <p:spPr>
            <a:xfrm>
              <a:off x="2893680" y="37908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rint Daily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. Card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75"/>
            <p:cNvSpPr/>
            <p:nvPr/>
          </p:nvSpPr>
          <p:spPr>
            <a:xfrm>
              <a:off x="2893680" y="430056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ut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76"/>
            <p:cNvSpPr/>
            <p:nvPr/>
          </p:nvSpPr>
          <p:spPr>
            <a:xfrm>
              <a:off x="2893680" y="4808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lock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77"/>
            <p:cNvSpPr/>
            <p:nvPr/>
          </p:nvSpPr>
          <p:spPr>
            <a:xfrm>
              <a:off x="2893680" y="53172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_s1078"/>
            <p:cNvSpPr/>
            <p:nvPr/>
          </p:nvSpPr>
          <p:spPr>
            <a:xfrm>
              <a:off x="2893680" y="582588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ront Desk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1079"/>
            <p:cNvSpPr/>
            <p:nvPr/>
          </p:nvSpPr>
          <p:spPr>
            <a:xfrm>
              <a:off x="4416480" y="2771640"/>
              <a:ext cx="114192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Trial Audi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_s1080"/>
            <p:cNvSpPr/>
            <p:nvPr/>
          </p:nvSpPr>
          <p:spPr>
            <a:xfrm>
              <a:off x="4416480" y="3281040"/>
              <a:ext cx="114084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Market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Segment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1081"/>
            <p:cNvSpPr/>
            <p:nvPr/>
          </p:nvSpPr>
          <p:spPr>
            <a:xfrm>
              <a:off x="4416480" y="3790800"/>
              <a:ext cx="1140840" cy="3394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POS Menu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82"/>
            <p:cNvSpPr/>
            <p:nvPr/>
          </p:nvSpPr>
          <p:spPr>
            <a:xfrm>
              <a:off x="4416480" y="430056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Statu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pdat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1083"/>
            <p:cNvSpPr/>
            <p:nvPr/>
          </p:nvSpPr>
          <p:spPr>
            <a:xfrm>
              <a:off x="4416480" y="4808880"/>
              <a:ext cx="114084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Final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1084"/>
            <p:cNvSpPr/>
            <p:nvPr/>
          </p:nvSpPr>
          <p:spPr>
            <a:xfrm>
              <a:off x="5939280" y="27716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 Statu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Updat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_s1085"/>
            <p:cNvSpPr/>
            <p:nvPr/>
          </p:nvSpPr>
          <p:spPr>
            <a:xfrm>
              <a:off x="59392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gistration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1086"/>
            <p:cNvSpPr/>
            <p:nvPr/>
          </p:nvSpPr>
          <p:spPr>
            <a:xfrm>
              <a:off x="5939280" y="379080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oom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Blocking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87"/>
            <p:cNvSpPr/>
            <p:nvPr/>
          </p:nvSpPr>
          <p:spPr>
            <a:xfrm>
              <a:off x="5939280" y="430056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88"/>
            <p:cNvSpPr/>
            <p:nvPr/>
          </p:nvSpPr>
          <p:spPr>
            <a:xfrm>
              <a:off x="5939280" y="480888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Housekeeping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89"/>
            <p:cNvSpPr/>
            <p:nvPr/>
          </p:nvSpPr>
          <p:spPr>
            <a:xfrm>
              <a:off x="7462080" y="27716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Locator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90"/>
            <p:cNvSpPr/>
            <p:nvPr/>
          </p:nvSpPr>
          <p:spPr>
            <a:xfrm>
              <a:off x="7462080" y="3281040"/>
              <a:ext cx="1141920" cy="338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Guest Messag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Verdana"/>
                </a:rPr>
                <a:t>Centre</a:t>
              </a:r>
              <a:endParaRPr b="1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Text Box 80"/>
          <p:cNvSpPr/>
          <p:nvPr/>
        </p:nvSpPr>
        <p:spPr>
          <a:xfrm>
            <a:off x="7667640" y="59500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6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ing the Property Management System (PM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Check-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MS Hierarch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MS Systems Interf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System Interfa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must be able to communicate with other hotel computer systems on order to maximise efficien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 and POS (point of sale) systems may differ from the PMS so the information needs to be passes along, so it is passed along to the guest account immed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can also interface with a sales and catering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MS System Interface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6920" y="227664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taura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187280" y="270828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Servic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1773360"/>
            <a:ext cx="1728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987640" y="1773360"/>
            <a:ext cx="1728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entra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067280" y="263700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588000" y="4699080"/>
            <a:ext cx="1729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BX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6588000" y="3500280"/>
            <a:ext cx="1729080" cy="524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les &amp;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terin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826920" y="3787920"/>
            <a:ext cx="1729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619280" y="477036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hop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1116000" y="527544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olf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684360" y="573408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619280" y="3141720"/>
            <a:ext cx="17287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un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3851280" y="3645000"/>
            <a:ext cx="208908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3995640" y="44226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M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971640" y="256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403280" y="2997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1692360" y="342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2556000" y="3933720"/>
            <a:ext cx="129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971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1258920" y="4149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24"/>
          <p:cNvSpPr/>
          <p:nvPr/>
        </p:nvSpPr>
        <p:spPr>
          <a:xfrm flipV="1">
            <a:off x="1692360" y="414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>
            <a:off x="4211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07672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>
            <a:off x="4716360" y="29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28"/>
          <p:cNvSpPr/>
          <p:nvPr/>
        </p:nvSpPr>
        <p:spPr>
          <a:xfrm flipH="1">
            <a:off x="5796000" y="378936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H="1" flipV="1">
            <a:off x="5940000" y="4724280"/>
            <a:ext cx="647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7740720" y="59500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8-17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use a variety of computer systems to manage the operations of their front office. Called a property management system (PMS), these computer systems manage a variety of tasks. A hotel PMS manages a guest’s check-in and checkout, cash transactions at the front desk, outlet/ancillary transactions, reservations, housekeeping, night audit and other tasks. The PMS impacts the rooms division before, during and after the arrival chro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rst step in deciding on the right PMS is to conduct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eds ana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ich is a process where hotel managers and senior managers determine the required scope of their PM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tors such as the hotel size, product type, location and target market affect the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all lodging ownership associations allow for independent PMS procurement, most franchise and management contract hotels use the PMS chosen by their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the needs are determined the appropriate software should be secured, PMS software is a computer program designed on a particular programming plat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that are given a mandated PMS by their chain typically receive a system with many more capabilities than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oftware often dictated the hardware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d users of the chosen configuration are the hotel employ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reas where an employee or manager can access the PMS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MS workst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each workstation will include the software, hardware and computer mon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ing on the needs of the end user, other applications such as email, word processing, Internet access etc, might be available at a particular work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ize and look of the PMS system must be appropri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lecting the P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 PMS stations are generally linked to each other in some type of networ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MS network (also called a LAN – local area network) allows each station to communicate with the other – this is vital so that every PMS station will know the status of every room and every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MS’s are more than communication tools, they can also be thought of as extended databases, as they store information and preferences, and capture demographics and other information on each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MS’s are organised based on a series of me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PMS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s all the data that pertains to an individual gu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registration men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ains all the pertinent information obtained from the initial reservation and during the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ing men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 be used to track all the credit/debit transactions related to the guest’s st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egistration Men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ate contained in the guest registration menu helps to track all the information pertinent to the guest’s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MS will contain this information in som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ugh the order and the verbiage may differ, the following lists the information contained within the registration men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16:44:58Z</dcterms:modified>
  <cp:revision>122</cp:revision>
  <dc:subject/>
  <dc:title>FRONT OFFICE OPERATIONS MANAGEMENT</dc:title>
</cp:coreProperties>
</file>